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3.png" ContentType="image/png"/>
  <Override PartName="/ppt/media/image55.jpeg" ContentType="image/jpeg"/>
  <Override PartName="/ppt/media/image20.gif" ContentType="image/gif"/>
  <Override PartName="/ppt/media/image54.jpeg" ContentType="image/jpeg"/>
  <Override PartName="/ppt/media/image13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5.gif" ContentType="image/gif"/>
  <Override PartName="/ppt/media/image40.png" ContentType="image/png"/>
  <Override PartName="/ppt/media/image36.jpeg" ContentType="image/jpeg"/>
  <Override PartName="/ppt/media/image9.jpeg" ContentType="image/jpeg"/>
  <Override PartName="/ppt/media/image41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12.png" ContentType="image/png"/>
  <Override PartName="/ppt/media/image53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7.jpeg" ContentType="image/jpeg"/>
  <Override PartName="/ppt/media/image34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51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63F-4EA8-4948-BC75-49ABD853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C85-2E49-432D-8055-A6D8A6B7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7E7F-F090-4500-A122-DD6C0B4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4E9EA-4F6E-4B0C-A2AC-6F654EA5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894C-ADA3-4002-A044-D81FDE81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9821-A363-43AD-BC67-7378F7C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053A4-0589-4927-81C9-2DBE7836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800B6-BF23-4416-8985-B9C9058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01E7A-25EB-4CEF-B2F7-88447FB8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A2ABA-6367-4B3A-9693-8537A3FF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465A3-6D3D-43F0-B7A7-9FD57D7D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FB4322-986E-43CB-ABEF-E1379FC0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F62-3159-4411-AA46-7E3A6EE2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79F67E-CF63-4CE4-B396-FB569552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C3129D-D24C-414B-B031-6FF8F9D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788E51-2D4D-4A3A-8058-416A105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5ADE0A-65D3-42B4-BEEE-CEE99E5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8899D2-3F29-4CE9-9A19-B64379F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534E4-85AA-44EA-B209-F3E439BA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7C0639-36FD-4E65-A242-4598BE5D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BA3A03-29A1-4004-B24D-3F3CE756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71F4B2-A290-4EC5-A9B7-368BAF8A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8D4421-8AE8-4807-958F-D6A07A85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DC7-EE19-4C3C-A1E0-87B48569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F958AC-0254-4421-A436-C35D1071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7A077-F0DF-47F7-B6A4-1CC3D80D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362B7-FCD5-478A-8941-7FA7A251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0E7B7-1112-4029-AC22-4FB473C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657D-2227-4B6D-838D-13137927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37971-F137-4705-85BA-8D5DE18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472A0-692C-4653-9389-6836DD9A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E2E91-1191-4498-86D1-8E5FF27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43E91-CA72-4AE7-BD99-AA45956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85EAF-9867-44D7-8CED-426EB51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95B-EAFD-43D9-9200-15C0168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33C1-E93F-417E-94C1-C923009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177D3-6E85-45C9-876C-6DFF5A0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3507A-8F22-404C-A679-5F824D46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6A8EC-462C-44C9-AB69-7B347636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4D33A-A138-4316-8DFC-69CBA73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BF062-9B39-43E5-B835-E325E12B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F48C5-9897-42A4-9B0D-35042471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F27A-0E64-40A5-8161-B075208F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1FC34-C981-46CD-BBE3-B5E34144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E0A06-A3A6-463E-AF35-967D2CDA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1192-7732-4644-8A47-5C7690C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9AF2-FD0D-4B21-8462-5B7BE70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340A2-67A9-4E9D-AB97-562C3A2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4CADA-79D8-49D1-8506-01011F79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F5CA4-523D-4CB6-AAB1-89B934EF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3572-A378-468C-9AD0-1E8CB001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6E8FA-E18F-41B6-A0D4-A9D72700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FF0FE-D059-4F4E-9EF3-2A849B64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E3BA1-E1BE-4124-B45B-61267C24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7FE2A-D868-476A-882F-85735CD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B0859-29FF-42C5-8D94-7DCDE510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B279-AF1A-4FE1-AAB4-3377A263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3A6B5-4795-49AE-BE47-8C05F51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9E15F-FCF2-4AAD-BDEF-B74879FD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EC54C-22FC-4C1C-9002-65A892F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5ADE5-E9B4-446A-A179-8069D366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C28F3-B02E-450E-B12F-48CAC3F8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BEBD3-57FC-49CA-BC81-03E74D47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19186-51B2-4990-8E5A-F6BA0E73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D47-7E44-4C9A-8F3B-F8A4832C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E88B-1B4B-4DDD-85D7-771F349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863-C31A-48E4-856D-BA4AF9C5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617-823F-4A66-AEF8-1ADA704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704-6DA5-4B83-9AA5-C52AD099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8C8-5792-4C45-ABA1-394409C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408-42B8-4AC5-B7D1-A62F36E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4F17-82DF-4E70-B8AB-2D3049B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00EC-46DC-474D-8EA3-9534F719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F3E6-1E1F-43B0-92BD-E2DCF736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9E95-4B11-44D8-8B3A-976F73B4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B024-AC62-40C3-ACD4-BB9B90E5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43E9-AE27-49AB-B738-12D1E18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713A-3786-4E7B-A4DC-B227C3E3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5061-3148-4AEB-9FD1-AF95E54A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0BB-A939-4926-A06B-2C5ECB2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E86E-F244-4E52-88A4-0F4E067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E896-7072-4C37-8346-CBE055B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0B34-D0E9-4037-A619-4D39A33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DA12-EA78-4445-9354-6266697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4E85-C46B-4E60-B1F9-EC505F5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65AC-2914-4819-B0DA-3E9419F5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C041-B8C3-450F-ABF1-29308784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38C8F-0D8B-41CC-AF0C-E1A1186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48B7-1C17-4CA4-9F00-0C8012E2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F683-ED87-4E46-AF4A-B6DC3320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85F-B929-46BD-A125-3C83FED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1E33-FD60-4A23-90A4-2E037A49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E2C8-2106-44FF-AB24-20D2678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189C2-BF4E-418E-8936-0D6FD9B9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92C9-B6A3-4B75-A94E-CF98CBD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7485-CE99-45B8-90F9-6084856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1F91-6EE0-47AF-AD33-D533BEAD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2D564-C77B-48E2-9950-F895731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2F80-D679-4C83-8E84-F61B279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38BA-C5B9-427B-988B-E1812CD6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4CEA-C0A0-4BEE-9B9B-29887B2E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9BA-EF11-4F8F-AAC6-56311ACA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C76E-4804-4BF8-A5BE-C6568238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EAD3A-2CDF-4C99-B566-30729534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B7A3-0554-4A77-ABC5-4C98135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7D4F-367A-481F-95A4-B9CB436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5ABCC-A1B6-42BA-BC6F-3D229BB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C27B-40BA-472F-8876-0677D61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94D6-9EFB-48AD-A203-7A79EAE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CDE7-C75A-461C-9702-8369205C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0256-5D4D-46B9-A7DC-7BA509A1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4592-AED1-41E3-93F6-846EFB60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BD6-6821-4AAC-BEF2-78E27AA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C5C0-DADE-46E6-BA89-2AADE2AE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C76C6-693E-42DF-95A9-EE7432C1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382E-5E05-4B35-A7A7-1E9CE40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3C2E-2CE0-493E-A8DB-FAC37B1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3871-AE92-4FB1-B4C5-AAC16D30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3596-863D-4804-ACB5-EB32D8ED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6853-21B7-4F45-BEFC-0B913E5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7DD3-57CA-46F8-AE48-E8B80D1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2B75-D93E-4CAB-BC5E-962F5854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19FC-DD06-4378-AEEC-BF49625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D44-369C-4995-9C5B-3012B2A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5AA3-716C-47FE-8862-78AB374E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B7AC-9D41-4382-9E9B-4F6AE702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8B91-6ABA-4295-89B1-1E40F4A4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C98F-69E2-45E1-B789-195A64D4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D4E4-91AF-4B27-AEEB-ADD81467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9933-32AC-44D4-AE45-A6A7145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0B90-428A-4B58-B763-131B1161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8516-235C-427B-B205-AE384C2D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9E0A-C362-475D-94F7-647C48D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36E5-696B-403D-BC09-DF7C946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B53-B4B5-49B9-84B9-C291765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6B636-ABF2-4201-8F8D-9DE192F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67C52-991C-4AEC-826B-EE21846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01593-6A87-4F79-BCD4-2E4DB7E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CC70-B06D-4140-ADF8-393B6209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037C-8B3D-4903-B07E-772A5813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6C4BA-8705-4E1E-ABC2-A1921D4D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18D4-EEFB-4554-A69C-A1B0B45A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AD22-9BA6-4DB9-A6F5-6C5D237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6D972-BE0C-46B9-8E07-973A48E9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2D7D-C433-4DB9-9725-827AF416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2D6-FA73-472C-A419-E752BB0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C8CB-A422-467F-8D7D-F7786E9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374F1-3A47-40B7-A74B-CA8ED62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B34D-85B9-449E-B2DD-654374F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BB528-5622-471E-80AC-646738CE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0168-A215-40C4-92DE-2A22A8D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F7A3-7640-41EE-89F0-C9EABEB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A511-4C92-4337-BCA8-87880DCF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CBE09-65C7-4789-BBAC-DC7316B9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7D903-F3A3-4CAD-A78D-A5A6E5C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E2165-BD3F-4382-875C-42BBC019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DABE-E828-4A9C-B682-E6182F75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E2B9-B77F-4F34-B8E8-C7A87EED3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6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0A6D-B28E-4A6F-B3B3-ED26A18E85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8AC-AF1C-49D1-A5C2-FCF5B1FCF3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564-4D13-42FD-882C-51DC7F9E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70D-896A-4964-AD57-90F84DA84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03C-D2D1-4824-9783-554CFAAB8C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644-C181-41BC-8DF6-07DCBE77F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1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7766-6A18-4206-8C60-2E0E1DB943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5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9B63-A43B-4F28-A283-255731D642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0F4-9E0D-433A-8BCD-5CC8ABF34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56F-EDED-417C-ADF3-AE16A2337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4BCB-20EA-4E27-B854-2701CCB44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8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93440" y="1295280"/>
            <a:ext cx="80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Tahoma"/>
              </a:rPr>
              <a:t>Revista De Modas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362320" cy="24382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2362320" y="3429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4800600" y="4557600"/>
            <a:ext cx="1881360" cy="230040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6629400" y="3124080"/>
            <a:ext cx="2514600" cy="22100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576000" y="30492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Showcard Gothic"/>
              </a:rPr>
              <a:t>BY : Emily Fos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2794320" y="380880"/>
            <a:ext cx="316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El Final</a:t>
            </a: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0720" y="2971800"/>
            <a:ext cx="893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Adios Amigos!!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4762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pyrus"/>
              </a:rPr>
              <a:t>Otono La Rop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56196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2286000" y="121932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6762600" y="1828800"/>
            <a:ext cx="2381400" cy="251460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676520" y="2133720"/>
            <a:ext cx="3809880" cy="106740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breille llev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retes bonit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illo elegan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un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pulsera amarill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un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lusa blanc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egr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 ,u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nturon marr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ó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,y l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o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32760" y="4343400"/>
            <a:ext cx="289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o lleva 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ntu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misil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shi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s blue j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2819520" y="3352680"/>
            <a:ext cx="3276360" cy="245268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6"/>
          <a:stretch/>
        </p:blipFill>
        <p:spPr>
          <a:xfrm>
            <a:off x="3352680" y="3505320"/>
            <a:ext cx="2316240" cy="21715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7"/>
          <a:stretch/>
        </p:blipFill>
        <p:spPr>
          <a:xfrm>
            <a:off x="3505320" y="3809880"/>
            <a:ext cx="2019240" cy="1514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 rot="20688600">
            <a:off x="0" y="22824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6141240" y="0"/>
            <a:ext cx="30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l Inver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3"/>
          <a:stretch/>
        </p:blipFill>
        <p:spPr>
          <a:xfrm>
            <a:off x="5791320" y="274320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4"/>
          <a:stretch/>
        </p:blipFill>
        <p:spPr>
          <a:xfrm>
            <a:off x="3962520" y="0"/>
            <a:ext cx="178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5"/>
          <a:stretch/>
        </p:blipFill>
        <p:spPr>
          <a:xfrm>
            <a:off x="0" y="4367160"/>
            <a:ext cx="1447920" cy="24908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754200" y="2546280"/>
            <a:ext cx="40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gana lleva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qu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ue jea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mis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24840" y="5181480"/>
            <a:ext cx="50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duardo lleva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ntelon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mis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fan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vien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aqu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6"/>
          <a:stretch/>
        </p:blipFill>
        <p:spPr>
          <a:xfrm>
            <a:off x="137160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7"/>
          <a:stretch/>
        </p:blipFill>
        <p:spPr>
          <a:xfrm>
            <a:off x="6343560" y="1066680"/>
            <a:ext cx="2800440" cy="163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primav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4"/>
          <a:stretch/>
        </p:blipFill>
        <p:spPr>
          <a:xfrm>
            <a:off x="7155000" y="0"/>
            <a:ext cx="1989000" cy="2133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5"/>
          <a:stretch/>
        </p:blipFill>
        <p:spPr>
          <a:xfrm>
            <a:off x="0" y="4267080"/>
            <a:ext cx="2209680" cy="25909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787560" y="4821120"/>
            <a:ext cx="34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stellar"/>
              </a:rPr>
              <a:t>La Primaver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053040" y="213372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77240" y="1905120"/>
            <a:ext cx="40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Rachel lleva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interon mar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os blue jeans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y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 shirt ros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2880" y="3200400"/>
            <a:ext cx="42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Roberto lleva un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gorro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camis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un t shirt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pulsero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os blue j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1743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057400" cy="388620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6095880" cy="15242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2428200" y="3808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4"/>
          <a:stretch/>
        </p:blipFill>
        <p:spPr>
          <a:xfrm>
            <a:off x="7512120" y="0"/>
            <a:ext cx="1631880" cy="12636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5627160" y="5638680"/>
            <a:ext cx="37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abelle llueve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u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lsa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rfaed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6"/>
          <a:stretch/>
        </p:blipFill>
        <p:spPr>
          <a:xfrm>
            <a:off x="2209680" y="160020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057400" cy="3886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1219320" y="152280"/>
            <a:ext cx="6095880" cy="152424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2428200" y="38088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l vera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4"/>
          <a:stretch/>
        </p:blipFill>
        <p:spPr>
          <a:xfrm>
            <a:off x="7512120" y="0"/>
            <a:ext cx="1631880" cy="126360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5"/>
          <a:stretch/>
        </p:blipFill>
        <p:spPr>
          <a:xfrm>
            <a:off x="6172200" y="13716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5627160" y="5638680"/>
            <a:ext cx="373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abelle llueve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r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ld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lous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ulsa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lo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rfaed de 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6"/>
          <a:stretch/>
        </p:blipFill>
        <p:spPr>
          <a:xfrm>
            <a:off x="2209680" y="1600200"/>
            <a:ext cx="381024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8153280" y="-38181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2"/>
          <a:stretch/>
        </p:blipFill>
        <p:spPr>
          <a:xfrm>
            <a:off x="0" y="2809800"/>
            <a:ext cx="2857680" cy="404820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5943600" y="0"/>
            <a:ext cx="2857680" cy="366696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1888560" y="76320"/>
            <a:ext cx="25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est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6400" y="23176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62200" y="9144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204680" y="36892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i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6"/>
          <a:stretch/>
        </p:blipFill>
        <p:spPr>
          <a:xfrm>
            <a:off x="7300800" y="3986280"/>
            <a:ext cx="1843200" cy="2871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153600" y="336600"/>
            <a:ext cx="40467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blo lleva 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ba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leq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5334120" y="2209680"/>
            <a:ext cx="3809880" cy="254340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5500440" y="4984920"/>
            <a:ext cx="41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ly llev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jim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ntuf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fonos celular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ulser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a tanque supi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3524400" cy="35244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5"/>
          <a:stretch/>
        </p:blipFill>
        <p:spPr>
          <a:xfrm>
            <a:off x="3429000" y="990720"/>
            <a:ext cx="1981080" cy="586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shion magaz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63360" y="-20520"/>
            <a:ext cx="2009880" cy="227628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205740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6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7"/>
          <a:stretch/>
        </p:blipFill>
        <p:spPr>
          <a:xfrm>
            <a:off x="0" y="2209680"/>
            <a:ext cx="9144000" cy="1941480"/>
          </a:xfrm>
          <a:prstGeom prst="rect">
            <a:avLst/>
          </a:prstGeom>
          <a:ln w="0">
            <a:noFill/>
          </a:ln>
        </p:spPr>
      </p:pic>
      <p:pic>
        <p:nvPicPr>
          <p:cNvPr id="1079" name="" descr=""/>
          <p:cNvPicPr/>
          <p:nvPr/>
        </p:nvPicPr>
        <p:blipFill>
          <a:blip r:embed="rId8"/>
          <a:stretch/>
        </p:blipFill>
        <p:spPr>
          <a:xfrm>
            <a:off x="2819520" y="41148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9"/>
          <a:stretch/>
        </p:blipFill>
        <p:spPr>
          <a:xfrm>
            <a:off x="4876920" y="4114800"/>
            <a:ext cx="1981080" cy="27432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10"/>
          <a:stretch/>
        </p:blipFill>
        <p:spPr>
          <a:xfrm>
            <a:off x="6858000" y="41148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1082" name=""/>
          <p:cNvSpPr/>
          <p:nvPr/>
        </p:nvSpPr>
        <p:spPr>
          <a:xfrm>
            <a:off x="1095840" y="220968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26a0"/>
                </a:solidFill>
                <a:latin typeface="Tahoma"/>
              </a:rPr>
              <a:t>La B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36800" y="220968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61320" y="363852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l Ani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347880" y="35812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a Puls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15Z</dcterms:created>
  <dc:creator>fosbergemi</dc:creator>
  <dc:description/>
  <dc:language>en-US</dc:language>
  <cp:lastModifiedBy>fosbergemi</cp:lastModifiedBy>
  <dcterms:modified xsi:type="dcterms:W3CDTF">2011-12-16T15:16:59Z</dcterms:modified>
  <cp:revision>14</cp:revision>
  <dc:subject/>
  <dc:title>Fashonista</dc:title>
</cp:coreProperties>
</file>